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D56B-8686-4BF4-A171-6BF1B286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795-5D35-4089-B6C0-9A660783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E8D-83BA-4672-9BCE-EB16194A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DF9-58FA-4DC6-A1E6-7240C06A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602-C9C8-44F5-8B67-82C7E52D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7D5-13A1-465C-A8D1-DFBF5C31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F8B-8A0A-4405-9660-724F717D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213-7C66-410E-AB63-C99D075D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C82-999A-440D-A154-ED164868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F83-9610-4534-961B-F0BEDA01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4A6-BA35-459C-A02F-0875C377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ABA-B4F5-4E8B-9E2A-4E4DB6BB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C243-53AD-4FB7-80AF-0DB11D9465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ill There Was No Remedy”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Divided Kingdom, Part 2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7, Lesson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d of the Divided King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23-12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The End of the 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Divided Kingdom</a:t>
            </a:r>
            <a:endParaRPr b="0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3581280"/>
            <a:ext cx="7391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The Next Period – Judah Alon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429000"/>
            <a:ext cx="78483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3124080"/>
            <a:ext cx="609840" cy="76212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’re Studying THIS Stretch of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dols Destroyed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 Kings 18:4; 2 Chron. 31:1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he Passover,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eop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stroy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acred st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sherah p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o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arious high places and alt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, the people went to their h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More Reforms In Judah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 Chron. 31:2-21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zekiah’s religious refor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gned the priests their du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ed the regular sacrif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ople contributed their first fruits and tit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great surplus resulted from their genero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shea reig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Fall of Samaria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 Kings 17:3-6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zekiah - 6th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2 Kings 18: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served G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shea rebelled against Assyria and joined an alliance with Egy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ypt was no hel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shea stopped paying tribute to Shalmane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Note: Tiglath-pileser died (727) BC and his son succeeded him.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Fall of Samaria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 Kings 17:3-6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zekiah - 6th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2 Kings 18: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Hoshea’s 7th year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lmaneser V invaded the l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ieged Samaria for 3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Shalmaneser died before Assyria took Samari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rgon finally conquered Sam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amaria, An Assyrian Province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 Kings 17:6, 24-41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zekiah - 6th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2 Kings 18: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ites removed to Assy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tives from other nations were brought in to Sam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intermarried with the poor Israelites who were left and the mixed race became the “Samaritan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Reason For Israel’s Fall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 Kings 17:7-18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ned against God (V. 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ed the ways of the heathens (v. 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t high places, images, and groves for worship (v. 9-1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nt incense as the heathens (v. 1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d idols (v. 1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gnored and rejected the prophets (v. 13-1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jected the covenant God made with their fathers (v. 1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Reason For Israel’s Fall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 Kings 17:7-18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molten images, groves and even worshipped Baal (v. 1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d their children to pass through the fire (v. 1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divination and enchantments (v. 1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d themselves to do evil (v. 1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was angry with Israel and removed them out of his sight (v. 1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1:40:27Z</dcterms:created>
  <dc:creator>Don Vines</dc:creator>
  <dc:description/>
  <dc:language>en-US</dc:language>
  <cp:lastModifiedBy>Frank D Vines</cp:lastModifiedBy>
  <dcterms:modified xsi:type="dcterms:W3CDTF">2006-02-13T02:50:31Z</dcterms:modified>
  <cp:revision>18</cp:revision>
  <dc:subject/>
  <dc:title>“Till There Was No Remedy” The Divided Kingdom, Part 2</dc:title>
</cp:coreProperties>
</file>